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906-B0CB-4C82-B449-F56701AD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F0F-192B-4C04-90DE-D69EB08E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27A-6842-4CB0-B3C0-ECC1BBBD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2A8F-72CD-479D-B74B-74FC1A7D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99CD-4908-4B47-AA42-4CC3429D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6371-55BF-4CC7-AB7D-E4495E35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DAA2-61B6-4FEE-A21A-CEE28514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46FA-8F4C-4C9F-A0F0-F3AF7A27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0E21-1B76-4942-99B8-3B439345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6A6E-D00C-4E0E-BA00-06E8D9F4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6C86-690E-4D3F-A875-C5605E4E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EB98-76B6-4ED1-9559-DF3DE7C8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6666-E0FC-463A-8A95-5D338978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70C7-5057-480D-90DE-F9BC86A6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7DD7-5152-4F4E-AE95-79969997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F6B7-013C-421C-B738-082A1B4D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F8FB-B637-4E57-92E2-C1776E16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AEE-13BC-4140-BD74-D08EF2A1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103-F9A5-4334-87B5-1D5E5B55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704-BD16-4560-85C2-BC46EAC3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D6F-61B6-48E3-AF7D-D3BE5011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9B6-11BD-4B00-A5AF-DC44E1BB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868-0B59-401B-A06A-6C82D258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DEB2-CAC6-4BBE-BEE4-FC64CC19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0E0A-3C31-46F5-A96C-9151AE8EAEE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51D9-5B24-4E2A-8E8C-E5C9B3A79CB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Nazi Germany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33 - 194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648320" y="61722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y Mr Osborne</a:t>
            </a:r>
            <a:br>
              <a:rPr sz="1800"/>
            </a:b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choolHistory.co.u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66480" y="19810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itler blamed the Jews f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reaty of  Versail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nflation 192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Economic collapse 1929 -3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33 - Unsuccessful boycott of Jewish 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Jews excluded from Government jo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ousands of professional Jewish people were dismissed from jo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34 - Jews banned from public places, parks, swimming pools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35 - The Nuremburg Laws 15 Sept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1 - The Reich Law on citizenship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- only those of German blood can be citizens, and have the right to vo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2- Law for the protection of German Blood and Honour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- forbids marriage or sexual relations between Jews and German citize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36 - 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professional activity of Jews is banned or restricted - includes vets, doctors, dentists, accountants, teachers and nur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938 Qualifications of Jewish doctors is cance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38 - Riechkristalnacht 9th Nove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ollowing the murder of a German diplomat in Paris by a Jew a campaign is started which last 3 days and targets Jewish shops, homes and synagogues. 90 killed 20 000 arrested and sent to concentration cam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Jewish children excluded form schools and Univers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1939 - Jews no longer allowed to run businesses and 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orbidden to own radios and to buy cakes and choco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940 - 42 Jews deported from Germany Jews in occupied territories moved into ghettos and used as slave labour. Special SS groups formed to deal with the Jews. Gassing in vans sta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3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ersecution of the Jew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e Wannsee Conference Jan 19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cision taken by Nazi leaders led by Heydrich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eet to discuss the final solu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cision to evacuate all Jews to extermination camps in Poland is t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ver 4.5 million Jews killed in death ca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u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ersecution of minoriti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omosexuals, Gypsies and other undesirables sent to concentration ca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ntally ill sent to concentration cam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Euthanasia program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eople judged worthless to the regime were killed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,000 children 71, 000 ad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topped in 1941 after protest from P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orced Sterilisation programme to prevent contamination  of the Aryan 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The use of Terr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 elite group of committed Nazis, used to eliminate the SA in June 193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harged with internal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guarded concentration cam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unted political enem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manded by Heinrich Himm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The use of Terr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Gestap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secret state police. Used to suppress hostility to the regime at home and in occupied territor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manded by Himm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The use of Terr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centration Ca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un by the SS to detain enemies of the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achau 193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isoners Jews, political, priests, anti-soc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y 1939 six camps were opera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xtermination Camps Auschwitz-Birken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Role of Propagan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P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l non Nazi newspapers and magazines were taken over or clo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l content was strictly contro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066680" y="4495680"/>
            <a:ext cx="7086600" cy="19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l stations under state control. Cheap mass produced radios sold. Sets installed in cafes and factories. All Hitlers speeches broadcas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Role of Propagan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lms : Over 100 000 made all approved by Goebbels. All films given a pro Nazi st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1752480" y="3352680"/>
            <a:ext cx="5105520" cy="2057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inistry for Public Propaga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lighte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Role of Propagan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allies and Campaig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nual rally at Nurembu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936 Olympic Games, used as propagan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cal rallies and fund raising led by the Hitler Youth and local party organis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osters used to promote Nazi ide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4"/>
          <p:cNvSpPr/>
          <p:nvPr/>
        </p:nvSpPr>
        <p:spPr>
          <a:xfrm>
            <a:off x="7086600" y="457200"/>
            <a:ext cx="1676520" cy="1143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osep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ebb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Role of Propagan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Books and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riters, and composers persuaded or forced to produce works in praise of Hit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ooks written by Jews, Communists etc were banned and many destroyed in public book burning in 193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Jazz music banned because of its black orig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33520" y="1828800"/>
            <a:ext cx="26668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Nazi Part Attitu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aimed to approve of Christianity and offer religious freedom. In fact attacked Churches and religious s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38080" y="487692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atholic Church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: Concordat 1933 in theory allowed Catholic Church to operate freely in return for an oath of loyalty. 1937 after a steady  erosion of its influence Pope condemns Nazi’s. Never take a stand on Jewish persecu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495680" y="1600200"/>
            <a:ext cx="39625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otestant Churche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 1933 attempt by Hitler to gain control and establish a Reich Church. Reich Church was anti-Christian and promoted Nazis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nfessional Church founded in defiance of Naz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5:50:23Z</dcterms:created>
  <dc:creator>Osborne</dc:creator>
  <dc:description/>
  <dc:language>en-US</dc:language>
  <cp:lastModifiedBy>.</cp:lastModifiedBy>
  <dcterms:modified xsi:type="dcterms:W3CDTF">2010-03-12T08:20:11Z</dcterms:modified>
  <cp:revision>5</cp:revision>
  <dc:subject/>
  <dc:title>Nazi Germany </dc:title>
</cp:coreProperties>
</file>